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C8C-9F59-4BF4-9156-A1B4F946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520-AB8A-476F-BCA5-2EF2BBD1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2E4-8F7A-43D7-9142-09EEA763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C78-7F72-4F6A-91D8-FB6FFD51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CAF-4EF6-4BBA-B5A2-ABA09D1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072-6B12-4E17-9B46-6C0193F6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D81-D5CC-48EE-83F7-E0A0BBF0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9ED-DF23-4E7F-8249-D7FD84E3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97E-72AA-42BD-8E88-30553FAD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AD5-F240-4C6B-B243-17DEC013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881-AF38-418A-BE99-AA8C036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852-656F-4E65-BFDC-D7C8AE11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B35E-B1B3-4969-875A-20BC2095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ewelrymall.com/cgibin/xlinker.cgi?loc=123&amp;lf=12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bensguide.gpo.gov/3-5/state/florida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19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Skylar, 9-20-10, Period 4, Computer numbe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586600">
            <a:off x="515520" y="1514160"/>
            <a:ext cx="7624800" cy="300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8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lorida</a:t>
            </a:r>
            <a:endParaRPr b="0" lang="en-US" sz="1800" spc="1" strike="noStrike">
              <a:ln w="255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304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 so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7-10 www.50states.com/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Tallaha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in the Union: March 3, 1845 as the 27th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In God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the sunshin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Orange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The mocking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the Swane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the name: Flowered, flowery, but also suggesting Easter, when the name w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esting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lorida the rocks or gems that you might be able to find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onst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gatized Co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438280"/>
            <a:ext cx="1362240" cy="1685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29718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stone Jewelr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welry Mal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-22-10, http://www.jewelrymall.com/stones/moonsto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lorida: Map and State Flag"/>
          <p:cNvPicPr/>
          <p:nvPr/>
        </p:nvPicPr>
        <p:blipFill>
          <a:blip r:embed="rId1"/>
          <a:srcRect l="10141" t="0" r="9956" b="68017"/>
          <a:stretch/>
        </p:blipFill>
        <p:spPr>
          <a:xfrm>
            <a:off x="609480" y="685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lorida: Map and State Flag"/>
          <p:cNvPicPr/>
          <p:nvPr/>
        </p:nvPicPr>
        <p:blipFill>
          <a:blip r:embed="rId2"/>
          <a:srcRect l="-6753" t="34672" r="-4840" b="-9322"/>
          <a:stretch/>
        </p:blipFill>
        <p:spPr>
          <a:xfrm>
            <a:off x="4495680" y="2819520"/>
            <a:ext cx="4267440" cy="362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41148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-22-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flori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743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. Marks National Wildlife Refu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-23-10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postcardsfrom.com/t1/00032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© 2000 WriteLine. Orange Blossom"/>
          <p:cNvPicPr/>
          <p:nvPr/>
        </p:nvPicPr>
        <p:blipFill>
          <a:blip r:embed="rId2"/>
          <a:stretch/>
        </p:blipFill>
        <p:spPr>
          <a:xfrm>
            <a:off x="6400800" y="304920"/>
            <a:ext cx="2362320" cy="1847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5880" y="251460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bal Palm/ Orange Blossom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-23-10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postcardsfrom.com/stamp/stamp-f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© 2000 WriteLine. Sabal Palm"/>
          <p:cNvPicPr/>
          <p:nvPr/>
        </p:nvPicPr>
        <p:blipFill>
          <a:blip r:embed="rId3"/>
          <a:stretch/>
        </p:blipFill>
        <p:spPr>
          <a:xfrm>
            <a:off x="6629400" y="4419720"/>
            <a:ext cx="1743120" cy="2190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52680" y="541008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are pictures of the Sabal Palm and the orange bloss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962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rounding the famous St. Marks wildlife refuge are many different habitats, home to migrant and resident wild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22Z</dcterms:created>
  <dc:creator>install</dc:creator>
  <dc:description/>
  <dc:language>en-US</dc:language>
  <cp:lastModifiedBy>install</cp:lastModifiedBy>
  <dcterms:modified xsi:type="dcterms:W3CDTF">2010-10-14T15:24:06Z</dcterms:modified>
  <cp:revision>9</cp:revision>
  <dc:subject/>
  <dc:title>Slide 1</dc:title>
</cp:coreProperties>
</file>